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10975"/>
        <c:axId val="37723837"/>
      </c:barChart>
      <c:catAx>
        <c:axId val="38910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23837"/>
        <c:crosses val="autoZero"/>
        <c:auto val="1"/>
        <c:lblAlgn val="ctr"/>
        <c:lblOffset val="100"/>
        <c:noMultiLvlLbl val="0"/>
      </c:catAx>
      <c:valAx>
        <c:axId val="37723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10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534-E46C-46F2-B4BE-DD1B3E42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37E-0BC6-4748-98F9-3BF59D71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46C-2650-425A-A823-A3A8D306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0E1-C6D6-4EB5-8C45-34AAF10A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583-3289-424F-B98B-5AC22BEF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175-E7DF-41AF-A6AB-E196B67C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1C9-7D2E-422C-8BDC-F0DB6B0D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73E-BD48-4D38-B1C5-C238A5F0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832-FA04-408A-8372-D7FF33DB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3D0-CE92-48E4-9BC5-6111953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E2D-6E44-47A3-AE21-6E234B3E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B3E-EC10-4673-9EDE-1DCF181C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C833B-3CFD-4BF1-BC41-6D36694076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