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50709"/>
        <c:axId val="81492938"/>
      </c:barChart>
      <c:catAx>
        <c:axId val="55050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92938"/>
        <c:crosses val="autoZero"/>
        <c:auto val="1"/>
        <c:lblAlgn val="ctr"/>
        <c:lblOffset val="100"/>
        <c:noMultiLvlLbl val="0"/>
      </c:catAx>
      <c:valAx>
        <c:axId val="81492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50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C8A-083F-4BE7-9483-9A4835F4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3F4-7217-4C2A-A47A-C61B6D60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DFA-AA35-4B09-8E73-9BC9C4D8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4BE-65AC-4F7E-A2FE-D08C8AD2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7FA-04B7-484E-965B-54DB822B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CEE-F1D1-4A57-AC52-4720CA06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A94-A23E-49AB-91B4-73057615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183-0F31-4D41-955D-955F0B60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0F1-29D4-43C6-8066-8CC08591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F7B-06B8-4259-B437-EF40F57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058-282C-47DF-9B52-0A6EFE42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B57-C426-47EA-905A-CBD1B2A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5074E-395C-49A6-8734-94C3ED143B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