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54671"/>
        <c:axId val="38212439"/>
      </c:barChart>
      <c:catAx>
        <c:axId val="25854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12439"/>
        <c:crosses val="autoZero"/>
        <c:auto val="1"/>
        <c:lblAlgn val="ctr"/>
        <c:lblOffset val="100"/>
        <c:noMultiLvlLbl val="0"/>
      </c:catAx>
      <c:valAx>
        <c:axId val="38212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54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73B2-DC43-40DB-91D9-50B98C39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AE3-62BC-4CDF-8585-D94516E9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D45-1B41-4F4A-AB33-2AD7B6B1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C661-3022-4F1E-8F37-7066CA0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E5C-3BDF-47F2-856F-74B7625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E0A-08F6-4E96-AA65-4DE7B8C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C67-D687-4D5B-B463-45AE0BF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F01B-35A3-4C05-83FC-AC8E21B6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BCF-0349-4628-AF4F-6DAC8F39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B99-5031-46A0-99E2-F1C359C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FF5-502C-4C63-8B5E-D6979BB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9DB-7EAB-4921-ACEE-4F81DD92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82BFF-3018-4AAE-B86B-E76F03F958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