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29235"/>
        <c:axId val="58498086"/>
      </c:barChart>
      <c:catAx>
        <c:axId val="92229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98086"/>
        <c:crosses val="autoZero"/>
        <c:auto val="1"/>
        <c:lblAlgn val="ctr"/>
        <c:lblOffset val="100"/>
        <c:noMultiLvlLbl val="0"/>
      </c:catAx>
      <c:valAx>
        <c:axId val="58498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29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755-89F5-4078-9506-B3280174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12B-6674-4BB7-8DDD-8651CEF1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A08-50A3-4671-87FD-E9B6CE6A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FDA-1792-41CD-9CB9-70960CB0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9B0-8DBA-4932-B49F-E778A220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FC5-20B4-4AC3-AB85-D76B0BA2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BC6-02C1-419B-A2EA-26797DE1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1E3-36B9-4628-8CE1-2EAA0A91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E1D-6FA0-4014-BA52-39561631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6CE-79F4-4225-9A43-6C608B04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497-6564-448A-8824-4F1C9A30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92C-3457-4339-99DE-91463B13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98D75-CC80-4F64-B11B-3EE5C0425F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