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281583"/>
        <c:axId val="3880885"/>
      </c:barChart>
      <c:catAx>
        <c:axId val="652815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0885"/>
        <c:crosses val="autoZero"/>
        <c:auto val="1"/>
        <c:lblAlgn val="ctr"/>
        <c:lblOffset val="100"/>
        <c:noMultiLvlLbl val="0"/>
      </c:catAx>
      <c:valAx>
        <c:axId val="3880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815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E91-92C3-413B-AD50-A42DE809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B2BD-51DD-47F8-9E74-EC427201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B5E1-B7EF-4F18-8098-9BD6DBC0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2BC-9A51-4707-8BED-49D69C70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11D-9FAB-4DA7-86E5-453B97A7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296E-4876-4081-8FED-16F14AD6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C566-9636-46F3-907E-BBD11446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417-D263-4994-9E9E-4B814F23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D552-FF3B-4A5B-BBE7-BB710998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138C-6BFA-4A8E-88F2-139CD279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410E-9627-4CB8-98C3-184B01C4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52B8-B3DF-462F-99CD-FBF2994C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7C16A-5761-40D1-9FE9-216B44FEAD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