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75356"/>
        <c:axId val="68616546"/>
      </c:barChart>
      <c:catAx>
        <c:axId val="97675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16546"/>
        <c:crosses val="autoZero"/>
        <c:auto val="1"/>
        <c:lblAlgn val="ctr"/>
        <c:lblOffset val="100"/>
        <c:noMultiLvlLbl val="0"/>
      </c:catAx>
      <c:valAx>
        <c:axId val="68616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75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381-64E8-4BD6-B8D3-64388208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823-A42B-41DF-8B66-5B196987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B46-94F0-4B9C-BC79-88F03A0B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1D9-1978-4BF5-B53C-DAC91EFD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1F6-2D8A-4BB8-868A-2482F6AB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2A3-C47B-4252-BE89-70A15959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E01-958D-4D61-BB4B-060224ED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261-6E36-4CBA-BC82-3727B84B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0C1-4204-4857-B1AD-20DD3C93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E17-C327-4FA4-9D76-6153F6EF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228-E018-4C00-8282-5A7B7319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030-37DB-4B92-A1AD-CA25C14B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15EE1-206C-4A4E-9562-919CC06638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