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6780"/>
        <c:axId val="90931183"/>
      </c:barChart>
      <c:catAx>
        <c:axId val="1746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31183"/>
        <c:crosses val="autoZero"/>
        <c:auto val="1"/>
        <c:lblAlgn val="ctr"/>
        <c:lblOffset val="100"/>
        <c:noMultiLvlLbl val="0"/>
      </c:catAx>
      <c:valAx>
        <c:axId val="90931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6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6AC-8970-4308-B5C6-654EF584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EEC-EE35-4CFB-A170-FCFEBEC6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CE6-29D7-4F01-929D-52064542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01E-017F-4CC3-A416-CDEAF6E3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2F9D-45F4-4E18-8727-9419CC30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6AF-DC21-4A09-969A-374A433F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0C59-006D-4E50-B14D-F03117AD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91D-EC7C-4639-856E-668A765F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CFC-9A54-4970-B47E-4ACF71EA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E86-CAA7-4723-AC19-D08FECC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08B-2DDF-4305-8998-F97BF01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983-F002-4B7F-A5E5-850A730A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70749-17D3-4530-99B3-B96928350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