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045210"/>
        <c:axId val="80153284"/>
      </c:barChart>
      <c:catAx>
        <c:axId val="480452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153284"/>
        <c:crosses val="autoZero"/>
        <c:auto val="1"/>
        <c:lblAlgn val="ctr"/>
        <c:lblOffset val="100"/>
        <c:noMultiLvlLbl val="0"/>
      </c:catAx>
      <c:valAx>
        <c:axId val="801532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0452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DD53-A233-45B0-9B3C-993945C71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FFFB-9275-4BB9-9306-CAC98F1DE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C80B-5771-4526-934D-C1ACA0C06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90BE-7F8D-4868-B730-46289A484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F901-48A4-4879-A24C-786655E89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624E-EDD6-4A60-8F25-82E06EC26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6C53-5E04-428B-94E4-1F371EF21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35B9-C3E6-427C-95B6-F13126A89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2A2D-280A-42E6-8C7D-67E79ED5C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FC69-31C3-4533-A233-839C6FAA1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2B6C-7FB1-4194-B95E-8593F9F21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5848-16B8-4E1F-B91D-CE3EB9B43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7CDC00-F2A3-4774-80BE-BB22E34E80B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