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71877"/>
        <c:axId val="44533169"/>
      </c:barChart>
      <c:catAx>
        <c:axId val="94971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33169"/>
        <c:crosses val="autoZero"/>
        <c:auto val="1"/>
        <c:lblAlgn val="ctr"/>
        <c:lblOffset val="100"/>
        <c:noMultiLvlLbl val="0"/>
      </c:catAx>
      <c:valAx>
        <c:axId val="44533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71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057-4EE6-4594-AC4E-7E8C40BB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5BB-4DEB-461D-9962-2D379895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59-271E-4EDF-AFBC-B1E8B22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539-F878-4BD0-A9BD-5A0F0D13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4BF-24E5-433D-B763-2C97274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0AF-AA20-4870-9FEC-9915C5D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0F8-605C-48EF-8350-39B33668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A46-7C08-477D-9B46-F02AC0A1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15A-4F7E-49E8-A076-2FD0D80A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A8A-1FCE-4C0E-A6B0-68619191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2EE-D426-472F-A782-8FC7B75C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A0A-9E77-4514-BA3C-A55F80B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8C6B-E1B6-4D30-A280-3BE587FE42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