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37572"/>
        <c:axId val="2304307"/>
      </c:barChart>
      <c:catAx>
        <c:axId val="11737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4307"/>
        <c:crosses val="autoZero"/>
        <c:auto val="1"/>
        <c:lblAlgn val="ctr"/>
        <c:lblOffset val="100"/>
        <c:noMultiLvlLbl val="0"/>
      </c:catAx>
      <c:valAx>
        <c:axId val="2304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37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05C-2645-43AD-90E0-80311CAC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96B-D5DB-4E25-93C5-F6459E95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439-8270-44D3-AF99-1D3D03F2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5AF-56E2-488C-8426-D2AC276B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2BE6-9867-4314-81DF-BBCE8272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B68-AADA-415F-9767-3C612971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AA0-7191-4DED-B9E7-FDC5D80C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086-12E3-4298-BA29-B2D637B5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C47-310A-49ED-935F-0D25367D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331-B3F7-44D1-BFC3-EF0CEDBC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9DE-DDE3-4540-9CE4-0250F3B0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128C-D5B5-4438-B616-BA2694B6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3CA93-3103-468A-A2F4-2C877206DC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