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8566"/>
        <c:axId val="42203751"/>
      </c:barChart>
      <c:catAx>
        <c:axId val="6258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03751"/>
        <c:crosses val="autoZero"/>
        <c:auto val="1"/>
        <c:lblAlgn val="ctr"/>
        <c:lblOffset val="100"/>
        <c:noMultiLvlLbl val="0"/>
      </c:catAx>
      <c:valAx>
        <c:axId val="42203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8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981-36DC-47D5-B455-F8F4CCF7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AD80-8589-4FBB-8676-40E8E723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F42-6D54-4FE8-AFA8-EA955264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6D5-B6D0-4C84-B726-64159E59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868-D371-4A50-8DF9-C39DF2CF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33D-C00F-4066-A6B7-87ECBC8C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EF9-5AB1-4864-9933-2810D2B5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8C6-615E-46AC-8423-8B316FAA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51E-10E9-4FE2-9236-2F9E56EF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AF0-081D-490C-9B94-682DCC48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4BA-8D2A-4D93-8BD1-97AEB0F0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1C8-67E2-40B9-BBCB-B7C690BC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E0157-3885-4E69-8085-AD340D0143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