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83414"/>
        <c:axId val="67230430"/>
      </c:barChart>
      <c:catAx>
        <c:axId val="58283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30430"/>
        <c:crosses val="autoZero"/>
        <c:auto val="1"/>
        <c:lblAlgn val="ctr"/>
        <c:lblOffset val="100"/>
        <c:noMultiLvlLbl val="0"/>
      </c:catAx>
      <c:valAx>
        <c:axId val="67230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83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AE8-FBBE-4E05-8E1C-D9A0351C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00A-886A-4843-A807-FF1C843E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F0C-4CA4-4C9A-800B-4DE976FB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EF6-E374-4E45-B46E-25DB263C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FF4-63AE-4A71-8DD6-F65D5DB4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989-BBD1-4D15-A250-8D778F0D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0A2-5A2D-4B64-8F87-8F2883FE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25B-B697-404C-B654-963AA7FE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922-8AC5-48DC-8537-8F92484F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1EA-6B8E-4007-9EF6-10AA67B5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894-72D0-499B-94CA-DF3585D0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9B7-E824-4183-B1B8-5391392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61A44-071B-4564-8FCE-78F81BD536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