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19476"/>
        <c:axId val="72643983"/>
      </c:barChart>
      <c:catAx>
        <c:axId val="66719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43983"/>
        <c:crosses val="autoZero"/>
        <c:auto val="1"/>
        <c:lblAlgn val="ctr"/>
        <c:lblOffset val="100"/>
        <c:noMultiLvlLbl val="0"/>
      </c:catAx>
      <c:valAx>
        <c:axId val="72643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19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941-BFEF-4927-AD1B-0E6C19E7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C6E-73E3-4947-9B04-0B254C12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122-74AD-451C-A25E-2A118063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69D-83D3-4C3C-A4C5-7B50ABC5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81F-29F7-4C93-BAB7-CCA1B97B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D56-E611-4721-BF66-7C8A03BF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D0D-0CBB-40D1-868E-02E6DDA6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023-919A-4B12-8BF3-10D4B78B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27B-131A-406C-B11C-36BBA285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DAA-A2D9-4984-8E2D-0D1104C2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41E9-B2B1-4666-8393-C632A72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8AC-4F0A-4587-993A-51DF90A7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14374-D84E-4F04-B640-703DFE6E16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