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04349"/>
        <c:axId val="27518454"/>
      </c:barChart>
      <c:catAx>
        <c:axId val="29604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8454"/>
        <c:crosses val="autoZero"/>
        <c:auto val="1"/>
        <c:lblAlgn val="ctr"/>
        <c:lblOffset val="100"/>
        <c:noMultiLvlLbl val="0"/>
      </c:catAx>
      <c:valAx>
        <c:axId val="27518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04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82B-BB8A-4A8E-8E74-085F10A4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DA1-3F30-410F-B70A-E98FE6E6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7DA-8F46-432D-A46E-12DF0565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214-C249-4D0E-AEA0-661192F0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FB4-BDFC-4CED-9763-BD81A4B3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109-7E20-4C70-92CA-78C86CD6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567-DDD2-4D27-8ADF-3D3A5C85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E49-E78F-4E77-9DC8-E4DCDF50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381-8789-4E48-9F05-FEBD2ABF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A8B-4AD4-4AEE-8F19-99AD4C5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EF4-001D-43B0-A17B-C441D611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EAF-863A-43A1-B99A-2A04DCE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1F1FC-94A2-4964-BC2E-B0FC48B497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