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047953"/>
        <c:axId val="90437505"/>
      </c:barChart>
      <c:catAx>
        <c:axId val="720479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37505"/>
        <c:crosses val="autoZero"/>
        <c:auto val="1"/>
        <c:lblAlgn val="ctr"/>
        <c:lblOffset val="100"/>
        <c:noMultiLvlLbl val="0"/>
      </c:catAx>
      <c:valAx>
        <c:axId val="904375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479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4541-4C3E-4300-B00C-AD64F9027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9021-7235-4022-B7D6-66DEC8F5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5E31-7FAA-4674-869B-1F0C78C40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FA71-37FA-4F62-AD0D-B31491FC9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60AF-BBAA-4F1B-A448-D8354CF7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7494-81E9-46A4-9F3D-9D61ABFD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8FFF-D7D1-4947-85C4-92CCDD26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2F9B-519A-44BC-A237-F8E1BADE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B07E-6F3E-4C30-923E-1E9D9C06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E825-3F45-4A09-8622-2C465A97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3F13-9479-47E8-ADA6-4ADA8E81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4C5C-A96A-4E37-9E8C-219ED400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BCA91-6A59-40C2-BBDE-2249099224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