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53469"/>
        <c:axId val="33372909"/>
      </c:barChart>
      <c:catAx>
        <c:axId val="14453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72909"/>
        <c:crosses val="autoZero"/>
        <c:auto val="1"/>
        <c:lblAlgn val="ctr"/>
        <c:lblOffset val="100"/>
        <c:noMultiLvlLbl val="0"/>
      </c:catAx>
      <c:valAx>
        <c:axId val="33372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53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AA0-7A56-4C08-A3B1-02303A6C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F1E-B72C-4163-B907-B3A747E8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9C7-A735-4721-A438-82BC3C6D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7BA-9A44-4B3C-B59B-6287A2DE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E65-83A5-4748-A5DC-B3E46DD1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4AA-7967-4ABC-9134-1E792FC0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182-680E-457A-ADE2-EF82F77E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65A-5647-4609-ABD3-4AD92229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C78-8AD1-470B-A7AC-936A45F2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F67-E264-4BBB-BF72-E0C96A2D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370-EDA1-441B-8746-A639F1E1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89C-F176-46F9-9BC0-8D87F4E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B0A01-22D5-408D-A540-8326695486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