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49259"/>
        <c:axId val="84592442"/>
      </c:barChart>
      <c:catAx>
        <c:axId val="36649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2442"/>
        <c:crosses val="autoZero"/>
        <c:auto val="1"/>
        <c:lblAlgn val="ctr"/>
        <c:lblOffset val="100"/>
        <c:noMultiLvlLbl val="0"/>
      </c:catAx>
      <c:valAx>
        <c:axId val="84592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9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B7F-0879-4698-8714-59157E9F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A39-A887-4B26-8266-35DE96F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725-2B87-46AF-BD33-3A289D50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18A-7D50-4EB6-8DD9-5D7A1E99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5EA-6C94-4C13-975F-93F05D5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9FB-1F45-49B1-BDB3-161E198B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C08-EA40-4C0C-A409-796ED3C2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D71-E9E2-4D0B-8F24-A39F978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F40-087E-4093-A250-87065C54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1C7-F512-4DE6-AA08-0A22161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4FE-480B-4CFD-8484-929FD68E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64D-357E-4CE9-9B34-448A512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F819C-9D28-4FDE-9E81-8E9352E177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