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121584"/>
        <c:axId val="86542816"/>
      </c:barChart>
      <c:catAx>
        <c:axId val="221215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542816"/>
        <c:crosses val="autoZero"/>
        <c:auto val="1"/>
        <c:lblAlgn val="ctr"/>
        <c:lblOffset val="100"/>
        <c:noMultiLvlLbl val="0"/>
      </c:catAx>
      <c:valAx>
        <c:axId val="865428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215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2877-D357-4FEE-B9CA-02DE8E2FC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37B9-3C06-4B42-9277-A7EADEE4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86D2-84A4-4800-8F11-C581601C8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2225-23FF-464F-930C-C1119C257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E1AE-2712-4B57-8C59-605CE6CB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19EF-162E-4B1E-B163-6BB8170B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AEB4-250C-4EBC-AABD-B68A5BB7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3568-4F66-4F53-9437-DD68079E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EC55-DA58-4D1A-AFFC-09F9FF9B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DCF1-A9F9-464E-B260-C7DB20EE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3424-3D0A-48A3-9D22-137A3941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DF7D-9BF6-4B26-A359-CE26DFB4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1E5BC-8A95-4171-8669-7CF18BB914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