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7613"/>
        <c:axId val="41163673"/>
      </c:barChart>
      <c:catAx>
        <c:axId val="63337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63673"/>
        <c:crosses val="autoZero"/>
        <c:auto val="1"/>
        <c:lblAlgn val="ctr"/>
        <c:lblOffset val="100"/>
        <c:noMultiLvlLbl val="0"/>
      </c:catAx>
      <c:valAx>
        <c:axId val="41163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7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449-2B80-48FA-B384-96EBD9A2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880-6C06-4DEF-B03C-8F446B84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6A4-C178-408C-9F3B-D6322DD5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2FA-1BEE-444C-A19A-7DF285B3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8C9-8829-4BB3-B854-0A46A9A3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5CF-586D-44C4-A5D4-75E61A86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129-1AEC-4E0D-AF41-7CC2E56E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B36-47E5-48B2-B13C-B9150AA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BDB-F019-4DBD-ABCC-F189839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0DB-B13D-4C61-9C73-871ECEB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14E-B076-412C-AF86-4269E46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103-6C87-43C0-8331-1B208CE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3EB14-5AB0-4C5D-A5B8-E68515196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