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33976"/>
        <c:axId val="65922159"/>
      </c:barChart>
      <c:catAx>
        <c:axId val="159339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22159"/>
        <c:crosses val="autoZero"/>
        <c:auto val="1"/>
        <c:lblAlgn val="ctr"/>
        <c:lblOffset val="100"/>
        <c:noMultiLvlLbl val="0"/>
      </c:catAx>
      <c:valAx>
        <c:axId val="65922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339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843-8B26-411D-B3C6-5B802892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2A7-DCFE-4CF4-98AA-FCF76674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24F-81B8-425B-AF98-8FA38A13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1D61-2034-4604-8A2C-C96D3426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CAF-9E2A-4FC5-976D-BC17050E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A66-E376-407A-A1A7-CC19D907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231-5556-430F-A9B1-40284343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5FB-6561-4578-8382-6464CE3E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473-6AB2-465F-BD71-E01594DE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436-6D94-4572-81BA-466EF973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0BC-21EF-44BE-8731-3FE6301F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50F6-2603-4C46-9DDA-057FB036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1127E-1A90-4AEF-9042-CD7F5D72C2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