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29219"/>
        <c:axId val="52291792"/>
      </c:barChart>
      <c:catAx>
        <c:axId val="58329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1792"/>
        <c:crosses val="autoZero"/>
        <c:auto val="1"/>
        <c:lblAlgn val="ctr"/>
        <c:lblOffset val="100"/>
        <c:noMultiLvlLbl val="0"/>
      </c:catAx>
      <c:valAx>
        <c:axId val="52291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29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47A-F020-4AD5-9B93-742A7CAD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C12-0EDB-47BE-905D-2B8FD04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100-9B83-4B9B-8807-8EBAB933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5F3-7558-4BA3-BE5B-437091C4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EE3-2AC0-4A71-A5F7-0DEE0EF6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6A7-6906-4AF9-97DF-3D24B1E9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090-4829-4BD3-9291-C4DABA7E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7B4-BA42-438B-8B5D-6A0B247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CF6-EFCF-4946-B587-A7B586C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8BE-A25D-4672-AF96-2F0D609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170-984D-4FCE-BBAA-3E10EFA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175-FA90-4E9C-B375-7309CF1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4B89A-0810-4CC9-82DB-247D71317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