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61396"/>
        <c:axId val="80676637"/>
      </c:barChart>
      <c:catAx>
        <c:axId val="22761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76637"/>
        <c:crosses val="autoZero"/>
        <c:auto val="1"/>
        <c:lblAlgn val="ctr"/>
        <c:lblOffset val="100"/>
        <c:noMultiLvlLbl val="0"/>
      </c:catAx>
      <c:valAx>
        <c:axId val="80676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61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007-58C6-476B-94FC-8F015BF8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418-002F-4FA9-B8CF-AF6E63E1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35C-9789-4F77-AA42-E8079372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A36-FE1F-4863-A1F9-68837A2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173-920C-43C7-BEFB-BE96B4B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F7B-EF67-47CA-80A4-65A83A46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1D1-1AC6-4B39-936A-00913C8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E0B-7782-4D61-A54B-EE17F19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BCC-7C76-4527-9319-96A63230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5F2-95D7-44E7-BE30-7209B1D1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7A0-9C94-40C7-94C2-EB8B859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8B7-F057-406F-9C36-013D10CD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EF420-EEF6-43A2-950B-DE6234032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